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2BA-A102-4641-829E-C88516FA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F23-1334-4823-8410-6992042D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8FA-7621-41EC-B67D-E8C738A4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E77-7A38-4E3C-857C-A0A4CB79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F6C1-2452-4A5A-B791-67AAB796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452E-4D69-4A80-A01F-E5CF112F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93FF-8B39-420E-BFF3-D39A059E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C345-591C-4047-ACEF-9EE43C88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D867-7F51-46E4-9567-80113FAA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3E0C-D15A-4F06-9B37-A6CD903D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AE71-C526-4A7F-A739-AE90F1F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DA3-979C-43C7-84CA-9F0463C2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662C-F9DA-40F0-9529-B73F5D5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A5F3-B699-49F8-A601-C5752E4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72B4-4362-4D21-8C32-8901252D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463F-6346-4B04-8C9F-6DD3B0B9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19B6-318D-4DE0-9897-9E756650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1FB-5370-48F8-A5DC-8F5030C8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BFF-BC2E-4359-BDF0-2CF14E4E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EC5-BECE-4FF3-A65D-2945D69D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14B-07AD-4EE8-AC8E-FFC6EA86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DB9-0AE1-4B2C-A092-7A6CBD32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EB1-B275-4204-83D5-367DC7B3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D35-8D6A-4B74-9C15-4EA724F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1A74-149D-4E97-95F5-7EB9CAC239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0C0D-549C-42A0-A0F2-702C845C4D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Monotype Corsiva"/>
              </a:rPr>
              <a:t>Rare Earth Metal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rent Jack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uliano Galeazz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Eleme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anium-Atomic # 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tonium-Atomic # 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ifornium-Atomic # 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U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anium-Used in Ammun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tonium-Used in Batte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ifornium-Used in Coal factories and c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Interesting Fac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Element are Radioa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re used in bom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re very r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cation on the periodic Ta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bottom separated from the other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The End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You are now educated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59:05Z</dcterms:created>
  <dc:creator>tatumadmin</dc:creator>
  <dc:description/>
  <dc:language>en-US</dc:language>
  <cp:lastModifiedBy>tatumadmin</cp:lastModifiedBy>
  <dcterms:modified xsi:type="dcterms:W3CDTF">2009-12-04T17:33:09Z</dcterms:modified>
  <cp:revision>2</cp:revision>
  <dc:subject/>
  <dc:title>Rare Earth Metals </dc:title>
</cp:coreProperties>
</file>